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51D-D971-4773-B134-5E004CB8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EA1-4130-4ED5-AC19-99E294A7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FF2-6BD3-4464-A58E-3E48EED3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A5E-C596-4AE5-817E-E853B6B5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FF1-7AD3-495C-AAE6-731E964F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A7A-3348-41AA-8670-7467FA1E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57D-7711-45C6-954A-D3B0A638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EC8-7F44-4062-9983-02DE45B7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CAB-4A6A-45CB-8E33-322A441B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6DE-76FF-49DE-BED2-E2B83C6F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E20-5434-4F75-B06A-AB933AA6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C8F-975D-40A7-ABBF-D6D3FC3E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4BBA5-669B-4D27-831F-D20287B12301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354F6-F4C4-45A6-80B9-F28F9BA844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Semantic_Web_Telecon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 for ESIP SW triples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898989"/>
                </a:solidFill>
                <a:latin typeface="Calibri"/>
              </a:rPr>
              <a:t>ESIP SW Cluster, Nov 22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898989"/>
                </a:solidFill>
                <a:latin typeface="Calibri"/>
              </a:rPr>
              <a:t>Telecon, 2pm 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iki.esipfed.org/index.php/Semantic_Web_Telecon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IP SW Triples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SIP meeting theme – metrics, impact and value – we should include this in our tutori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Wed PM, Thu 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nd to end walk through of entire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ossible plenary presence (15min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Up to 6 hours, 2 x 1 1/2 hrs each d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ry and avoid clashes with other sessions of inter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and What - 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420920"/>
            <a:ext cx="914400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ed PM Session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troduction – 10 mins – P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case – motivation and scope – 20 mins - Ch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del – based on use case, start with domain model and proceed to ontology model and then show them how to engineer it (i.e. a piece of it) – 1 hr – Peter and R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ed PM Sessi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del ctd – 20 mins – Peter and R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stance generation and population (how to? Write turtle, use Protégé, …), triple store ingest, web form – demo – 1 hr – Rahul and P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ummary and evaluation – 10 mins – Chris and H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nd h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420920"/>
            <a:ext cx="914400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 AM Session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 to these sessions – 10 min - P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definition – decompose use case, review technology and dependencies, examine requirements for search and report, add/ correct instances, technology dependencies – 1 hr 10 mins – Peter and T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–10 mins - Chris and Hoo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 AM Session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/query development – generate SPARQL, follow along, provide a web query form, cut paste query into a textbox and execute and get result, for visual or text traversal, web form in wiki and first class citizen values (URI) - 1hr – H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–10 mins - Chris and Hoo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ems that would lead into intermediate (next)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endipitous discovery of homonym problem and options for 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51:09Z</dcterms:created>
  <dc:creator>Peter Fox</dc:creator>
  <dc:description/>
  <dc:language>en-US</dc:language>
  <cp:lastModifiedBy>Peter Fox</cp:lastModifiedBy>
  <dcterms:modified xsi:type="dcterms:W3CDTF">2010-11-22T21:02:47Z</dcterms:modified>
  <cp:revision>13</cp:revision>
  <dc:subject/>
  <dc:title>Slide 1</dc:title>
</cp:coreProperties>
</file>